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716588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84E-1D55-4E76-A3BA-0993C360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A2F-C8CA-4B32-A9E9-586379E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FA1-6B9B-477F-B4DF-5830E102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2464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6380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2464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6380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8A5-D692-40EC-AB2F-F9780462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9C74-CD3A-4DEA-9E21-CF465441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F86C-C0B5-4B51-9F95-AFFCA31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225-B5DA-4D73-8889-E9D3EE2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EE31-51E4-446A-B1DD-DCEF50D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87B3-CAAD-479F-B0DE-DB055F1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5480" y="365040"/>
            <a:ext cx="51433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D25-6658-4331-B5C0-F09D2C9E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2A9-C027-44DE-B48D-A8EBEFA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37A-9533-47E3-9726-2DFD533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3B1C-C868-4386-992A-71E58B6E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E61-78B6-4F90-9378-EDD1F15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F550-FFF5-48E8-B58E-1BDB4D30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A28-CD5A-48A9-877F-F6D73CC0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2464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6380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48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02464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6380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39FB-5ECA-42A1-AD64-B46093BA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AFD-9231-4E27-B3B0-850F4818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EB8-1509-4A05-ADC8-49C3D6D0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775-BCB0-45B8-9429-D2A4D14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480" y="365040"/>
            <a:ext cx="51433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B37-58D8-443B-B773-4B46A82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082-E6F7-4A05-8BB1-1283B98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EBD-0CB5-4F65-AD63-533DA16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077-F7FE-46FF-B694-C496AD6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160" indent="-269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4320" indent="-21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8480" indent="-21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84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52280" y="8475480"/>
            <a:ext cx="18097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9572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FB2DEC-0756-446B-B70A-8A6D6EE037E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XIISIBESA2014"/>
          <p:cNvPicPr/>
          <p:nvPr/>
        </p:nvPicPr>
        <p:blipFill>
          <a:blip r:embed="rId3"/>
          <a:stretch/>
        </p:blipFill>
        <p:spPr>
          <a:xfrm>
            <a:off x="336600" y="250920"/>
            <a:ext cx="84600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Imagem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018040" y="484200"/>
            <a:ext cx="389160" cy="36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8" descr="andis"/>
          <p:cNvPicPr/>
          <p:nvPr/>
        </p:nvPicPr>
        <p:blipFill>
          <a:blip r:embed="rId5">
            <a:grayscl/>
          </a:blip>
          <a:stretch/>
        </p:blipFill>
        <p:spPr>
          <a:xfrm>
            <a:off x="4441680" y="484200"/>
            <a:ext cx="447840" cy="361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28584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952280" y="8475480"/>
            <a:ext cx="18097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9572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19AEC0-3438-4256-8657-10284ED7344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aixaDeTexto 2" descr=""/>
          <p:cNvPicPr/>
          <p:nvPr/>
        </p:nvPicPr>
        <p:blipFill>
          <a:blip r:embed="rId1"/>
          <a:stretch/>
        </p:blipFill>
        <p:spPr>
          <a:xfrm>
            <a:off x="-49320" y="646200"/>
            <a:ext cx="5767560" cy="738000"/>
          </a:xfrm>
          <a:prstGeom prst="rect">
            <a:avLst/>
          </a:prstGeom>
          <a:ln w="0">
            <a:noFill/>
          </a:ln>
        </p:spPr>
      </p:pic>
      <p:sp>
        <p:nvSpPr>
          <p:cNvPr id="86" name="Retângulo 3"/>
          <p:cNvSpPr/>
          <p:nvPr/>
        </p:nvSpPr>
        <p:spPr>
          <a:xfrm>
            <a:off x="0" y="158760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h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4"/>
          <p:cNvSpPr/>
          <p:nvPr/>
        </p:nvSpPr>
        <p:spPr>
          <a:xfrm>
            <a:off x="0" y="8454960"/>
            <a:ext cx="54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5"/>
          <p:cNvSpPr/>
          <p:nvPr/>
        </p:nvSpPr>
        <p:spPr>
          <a:xfrm>
            <a:off x="-27000" y="755820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ângulo 6"/>
          <p:cNvSpPr/>
          <p:nvPr/>
        </p:nvSpPr>
        <p:spPr>
          <a:xfrm>
            <a:off x="-50760" y="65660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-27000" y="5446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8"/>
          <p:cNvSpPr/>
          <p:nvPr/>
        </p:nvSpPr>
        <p:spPr>
          <a:xfrm>
            <a:off x="-85680" y="42908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9"/>
          <p:cNvSpPr/>
          <p:nvPr/>
        </p:nvSpPr>
        <p:spPr>
          <a:xfrm>
            <a:off x="-25560" y="3314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10"/>
          <p:cNvSpPr/>
          <p:nvPr/>
        </p:nvSpPr>
        <p:spPr>
          <a:xfrm>
            <a:off x="-50760" y="23734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11"/>
          <p:cNvSpPr/>
          <p:nvPr/>
        </p:nvSpPr>
        <p:spPr>
          <a:xfrm>
            <a:off x="0" y="2556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640000"/>
                </a:solidFill>
                <a:latin typeface="Arial"/>
              </a:rPr>
              <a:t>INTERNACIONAL CONFERENCE </a:t>
            </a:r>
            <a:r>
              <a:rPr b="0" i="1" lang="pt-BR" sz="1600" spc="-1" strike="noStrike">
                <a:solidFill>
                  <a:srgbClr val="640000"/>
                </a:solidFill>
                <a:latin typeface="Arial"/>
              </a:rPr>
              <a:t>PRIMUM NON NOCERE </a:t>
            </a:r>
            <a:br>
              <a:rPr sz="1600"/>
            </a:br>
            <a:r>
              <a:rPr b="0" i="1" lang="pt-BR" sz="1600" spc="-1" strike="noStrike">
                <a:solidFill>
                  <a:srgbClr val="640000"/>
                </a:solidFill>
                <a:latin typeface="Arial"/>
              </a:rPr>
              <a:t>Microscale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13:05:40Z</dcterms:created>
  <dc:creator>Kátia Bella</dc:creator>
  <dc:description/>
  <dc:language>en-US</dc:language>
  <cp:lastModifiedBy>Nazare Pellizzetti Szymaniak</cp:lastModifiedBy>
  <dcterms:modified xsi:type="dcterms:W3CDTF">2016-06-16T12:10:11Z</dcterms:modified>
  <cp:revision>64</cp:revision>
  <dc:subject/>
  <dc:title>Slide 1</dc:title>
</cp:coreProperties>
</file>