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5716588" cy="9144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D66D-077F-4570-B81E-8B27CFFD1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5480" y="2133360"/>
            <a:ext cx="51433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5480" y="5285880"/>
            <a:ext cx="51433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020D-97DF-4F0F-B5D8-C051BC5C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5480" y="2133360"/>
            <a:ext cx="25099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21400" y="2133360"/>
            <a:ext cx="25099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5480" y="5285880"/>
            <a:ext cx="25099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21400" y="5285880"/>
            <a:ext cx="25099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CD96-4CA9-457F-871B-4419B34D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5480" y="2133360"/>
            <a:ext cx="165600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24640" y="2133360"/>
            <a:ext cx="165600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63800" y="2133360"/>
            <a:ext cx="165600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5480" y="5285880"/>
            <a:ext cx="165600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24640" y="5285880"/>
            <a:ext cx="165600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63800" y="5285880"/>
            <a:ext cx="165600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4956-AC70-4118-8917-714AC00D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1039-0B4B-4E34-A165-B42B2A612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5480" y="2133360"/>
            <a:ext cx="5143320" cy="60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D4AA-20BA-40C4-A10A-C79CF02D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5480" y="2133360"/>
            <a:ext cx="514332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020F-7600-4AA7-83C9-B13EC747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2133360"/>
            <a:ext cx="250992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921400" y="2133360"/>
            <a:ext cx="250992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96E0-8679-4852-A49D-E5D17563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4F1C-6C44-43BE-B242-1181185E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5480" y="365040"/>
            <a:ext cx="51433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A074-8D69-4A96-87A2-2D1C3CDD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480" y="2133360"/>
            <a:ext cx="25099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921400" y="2133360"/>
            <a:ext cx="250992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5480" y="5285880"/>
            <a:ext cx="25099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E781-7C01-43A9-BA35-929D8096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5480" y="2133360"/>
            <a:ext cx="5143320" cy="60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26A7-2F7C-4A51-8CEE-7BA2F22A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480" y="2133360"/>
            <a:ext cx="250992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21400" y="2133360"/>
            <a:ext cx="25099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921400" y="5285880"/>
            <a:ext cx="25099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4181-79C4-4858-A859-C20ED61B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480" y="2133360"/>
            <a:ext cx="25099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921400" y="2133360"/>
            <a:ext cx="25099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5480" y="5285880"/>
            <a:ext cx="51433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F3B5-11C5-4B9C-B28E-093F5BB9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480" y="2133360"/>
            <a:ext cx="51433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5480" y="5285880"/>
            <a:ext cx="51433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70A2-640D-44AE-8F03-3847F0F1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5480" y="2133360"/>
            <a:ext cx="25099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921400" y="2133360"/>
            <a:ext cx="25099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5480" y="5285880"/>
            <a:ext cx="25099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921400" y="5285880"/>
            <a:ext cx="25099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8167-99FE-4AFF-9DBC-953DC169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5480" y="2133360"/>
            <a:ext cx="165600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024640" y="2133360"/>
            <a:ext cx="165600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763800" y="2133360"/>
            <a:ext cx="165600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5480" y="5285880"/>
            <a:ext cx="165600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024640" y="5285880"/>
            <a:ext cx="165600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3763800" y="5285880"/>
            <a:ext cx="165600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8B3C-B0EC-4768-BCFD-1DF9FF28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5480" y="2133360"/>
            <a:ext cx="514332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F30E-AD69-46BE-BE73-419D7302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480" y="2133360"/>
            <a:ext cx="250992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21400" y="2133360"/>
            <a:ext cx="250992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1BF3-ED4B-4505-B703-FF7C02E6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0F2D-316A-416D-A5B7-067ABC7E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5480" y="365040"/>
            <a:ext cx="51433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46C9-2FBC-4A60-9166-59073E5B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5480" y="2133360"/>
            <a:ext cx="25099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21400" y="2133360"/>
            <a:ext cx="250992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5480" y="5285880"/>
            <a:ext cx="25099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CDB5-F233-4E8A-BC4C-3EA74D8F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5480" y="2133360"/>
            <a:ext cx="250992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21400" y="2133360"/>
            <a:ext cx="25099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21400" y="5285880"/>
            <a:ext cx="25099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05CD-A669-4369-8394-123B9C65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5480" y="2133360"/>
            <a:ext cx="25099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21400" y="2133360"/>
            <a:ext cx="25099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5480" y="5285880"/>
            <a:ext cx="5143320" cy="28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1773-5702-4E19-8D18-8ED94CDF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480" y="2133360"/>
            <a:ext cx="514332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4160" indent="-269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4320" indent="-21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8480" indent="-21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3000" indent="-21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3000" indent="-21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3000" indent="-21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5840" y="8475480"/>
            <a:ext cx="133344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52280" y="8475480"/>
            <a:ext cx="180972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95720" y="8475480"/>
            <a:ext cx="133344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DB4EBEB-A333-4035-A3A5-88B082050D2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6" descr="XIISIBESA2014"/>
          <p:cNvPicPr/>
          <p:nvPr/>
        </p:nvPicPr>
        <p:blipFill>
          <a:blip r:embed="rId3"/>
          <a:stretch/>
        </p:blipFill>
        <p:spPr>
          <a:xfrm>
            <a:off x="336600" y="250920"/>
            <a:ext cx="846000" cy="828720"/>
          </a:xfrm>
          <a:prstGeom prst="rect">
            <a:avLst/>
          </a:prstGeom>
          <a:ln w="0">
            <a:noFill/>
          </a:ln>
        </p:spPr>
      </p:pic>
      <p:pic>
        <p:nvPicPr>
          <p:cNvPr id="42" name="Imagem 7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5018040" y="484200"/>
            <a:ext cx="389160" cy="361800"/>
          </a:xfrm>
          <a:prstGeom prst="rect">
            <a:avLst/>
          </a:prstGeom>
          <a:ln w="0">
            <a:noFill/>
          </a:ln>
        </p:spPr>
      </p:pic>
      <p:pic>
        <p:nvPicPr>
          <p:cNvPr id="43" name="Imagem 8" descr="andis"/>
          <p:cNvPicPr/>
          <p:nvPr/>
        </p:nvPicPr>
        <p:blipFill>
          <a:blip r:embed="rId5">
            <a:grayscl/>
          </a:blip>
          <a:stretch/>
        </p:blipFill>
        <p:spPr>
          <a:xfrm>
            <a:off x="4441680" y="484200"/>
            <a:ext cx="447840" cy="361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5143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5480" y="2133360"/>
            <a:ext cx="514332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040" indent="-224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4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4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4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4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285840" y="8475480"/>
            <a:ext cx="133344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1952280" y="8475480"/>
            <a:ext cx="180972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4095720" y="8475480"/>
            <a:ext cx="133344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A056E92-0DD7-403A-9AA4-4B1823B6B58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aixaDeTexto 2" descr=""/>
          <p:cNvPicPr/>
          <p:nvPr/>
        </p:nvPicPr>
        <p:blipFill>
          <a:blip r:embed="rId1"/>
          <a:stretch/>
        </p:blipFill>
        <p:spPr>
          <a:xfrm>
            <a:off x="-49320" y="646200"/>
            <a:ext cx="5767560" cy="738000"/>
          </a:xfrm>
          <a:prstGeom prst="rect">
            <a:avLst/>
          </a:prstGeom>
          <a:ln w="0">
            <a:noFill/>
          </a:ln>
        </p:spPr>
      </p:pic>
      <p:sp>
        <p:nvSpPr>
          <p:cNvPr id="86" name="Retângulo 3"/>
          <p:cNvSpPr/>
          <p:nvPr/>
        </p:nvSpPr>
        <p:spPr>
          <a:xfrm>
            <a:off x="0" y="1587600"/>
            <a:ext cx="564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ho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tângulo 4"/>
          <p:cNvSpPr/>
          <p:nvPr/>
        </p:nvSpPr>
        <p:spPr>
          <a:xfrm>
            <a:off x="0" y="8454960"/>
            <a:ext cx="54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tângulo 5"/>
          <p:cNvSpPr/>
          <p:nvPr/>
        </p:nvSpPr>
        <p:spPr>
          <a:xfrm>
            <a:off x="-27000" y="7558200"/>
            <a:ext cx="56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tângulo 6"/>
          <p:cNvSpPr/>
          <p:nvPr/>
        </p:nvSpPr>
        <p:spPr>
          <a:xfrm>
            <a:off x="-50760" y="6566040"/>
            <a:ext cx="564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tângulo 7"/>
          <p:cNvSpPr/>
          <p:nvPr/>
        </p:nvSpPr>
        <p:spPr>
          <a:xfrm>
            <a:off x="-27000" y="544680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tângulo 8"/>
          <p:cNvSpPr/>
          <p:nvPr/>
        </p:nvSpPr>
        <p:spPr>
          <a:xfrm>
            <a:off x="-85680" y="4290840"/>
            <a:ext cx="564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tângulo 9"/>
          <p:cNvSpPr/>
          <p:nvPr/>
        </p:nvSpPr>
        <p:spPr>
          <a:xfrm>
            <a:off x="-25560" y="3314880"/>
            <a:ext cx="56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tângulo 10"/>
          <p:cNvSpPr/>
          <p:nvPr/>
        </p:nvSpPr>
        <p:spPr>
          <a:xfrm>
            <a:off x="-50760" y="237348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tângulo 11"/>
          <p:cNvSpPr/>
          <p:nvPr/>
        </p:nvSpPr>
        <p:spPr>
          <a:xfrm>
            <a:off x="0" y="25560"/>
            <a:ext cx="571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600" spc="-1" strike="noStrike">
                <a:solidFill>
                  <a:srgbClr val="640000"/>
                </a:solidFill>
                <a:latin typeface="Arial"/>
              </a:rPr>
              <a:t>INTERNACIONAL CONFERENCE </a:t>
            </a:r>
            <a:r>
              <a:rPr b="0" i="1" lang="pt-BR" sz="1600" spc="-1" strike="noStrike">
                <a:solidFill>
                  <a:srgbClr val="640000"/>
                </a:solidFill>
                <a:latin typeface="Arial"/>
              </a:rPr>
              <a:t>PRIMUM NON NOCERE </a:t>
            </a:r>
            <a:br>
              <a:rPr sz="1600"/>
            </a:br>
            <a:r>
              <a:rPr b="0" i="1" lang="pt-BR" sz="1600" spc="-1" strike="noStrike">
                <a:solidFill>
                  <a:srgbClr val="640000"/>
                </a:solidFill>
                <a:latin typeface="Arial"/>
              </a:rPr>
              <a:t>Microscale Innov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9T13:05:40Z</dcterms:created>
  <dc:creator>Kátia Bella</dc:creator>
  <dc:description/>
  <dc:language>en-US</dc:language>
  <cp:lastModifiedBy>Nazare Pellizzetti Szymaniak</cp:lastModifiedBy>
  <dcterms:modified xsi:type="dcterms:W3CDTF">2016-06-16T12:10:11Z</dcterms:modified>
  <cp:revision>64</cp:revision>
  <dc:subject/>
  <dc:title>Slide 1</dc:title>
</cp:coreProperties>
</file>